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5320" y="8636040"/>
            <a:ext cx="631188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55320" y="8636040"/>
            <a:ext cx="631188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55320" y="8636040"/>
            <a:ext cx="631188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55320" y="8636040"/>
            <a:ext cx="631188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55320" y="8636040"/>
            <a:ext cx="631188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320" y="8635680"/>
            <a:ext cx="6311880" cy="609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1422000"/>
            <a:ext cx="10464840" cy="690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762120">
              <a:spcBef>
                <a:spcPts val="2999"/>
              </a:spcBef>
              <a:buClr>
                <a:srgbClr val="022455"/>
              </a:buClr>
              <a:buSzPct val="15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lvl="1" marL="1066680" indent="-355320">
              <a:spcBef>
                <a:spcPts val="2999"/>
              </a:spcBef>
              <a:buClr>
                <a:srgbClr val="606060"/>
              </a:buClr>
              <a:buSzPct val="116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lvl="2" marL="1727280" indent="-571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lvl="3" marL="2171880" indent="-571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lvl="4" marL="2616120" indent="-5713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lvl="5" marL="2616120" indent="-5713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lvl="6" marL="2616120" indent="-5713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5320" y="8636040"/>
            <a:ext cx="6311880" cy="59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320" y="8635680"/>
            <a:ext cx="6311880" cy="609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269720" y="1422000"/>
            <a:ext cx="10464840" cy="690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762120">
              <a:spcBef>
                <a:spcPts val="2999"/>
              </a:spcBef>
              <a:buClr>
                <a:srgbClr val="022455"/>
              </a:buClr>
              <a:buSzPct val="15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lvl="1" marL="1066680" indent="-355320">
              <a:spcBef>
                <a:spcPts val="2999"/>
              </a:spcBef>
              <a:buClr>
                <a:srgbClr val="606060"/>
              </a:buClr>
              <a:buSzPct val="116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lvl="2" marL="1727280" indent="-571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lvl="3" marL="2171880" indent="-571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lvl="4" marL="2616120" indent="-5713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lvl="5" marL="2616120" indent="-5713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lvl="6" marL="2616120" indent="-5713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sales@atlassian.co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Using a Wiki in a Web 2.0 Company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  <a:ea typeface="Gill Sans"/>
              </a:rPr>
              <a:t>Managing HR Project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696080" y="3008160"/>
            <a:ext cx="3581640" cy="2961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206360" y="1816200"/>
            <a:ext cx="4623120" cy="977760"/>
          </a:xfrm>
          <a:prstGeom prst="roundRect">
            <a:avLst>
              <a:gd name="adj" fmla="val 19477"/>
            </a:avLst>
          </a:prstGeom>
          <a:solidFill>
            <a:srgbClr val="73ba40">
              <a:alpha val="40000"/>
            </a:srgbClr>
          </a:solidFill>
          <a:ln w="0">
            <a:noFill/>
          </a:ln>
          <a:effectLst>
            <a:outerShdw dist="76367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With the wiki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"/>
          <p:cNvSpPr/>
          <p:nvPr/>
        </p:nvSpPr>
        <p:spPr>
          <a:xfrm>
            <a:off x="7340760" y="6222960"/>
            <a:ext cx="427968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762120" indent="-762120">
              <a:lnSpc>
                <a:spcPct val="100000"/>
              </a:lnSpc>
              <a:spcBef>
                <a:spcPts val="2401"/>
              </a:spcBef>
              <a:buSzPct val="1593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Impact"/>
                <a:ea typeface="Impact"/>
              </a:rPr>
              <a:t>IT Bottleneck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762120" indent="-762120">
              <a:lnSpc>
                <a:spcPct val="100000"/>
              </a:lnSpc>
              <a:spcBef>
                <a:spcPts val="2401"/>
              </a:spcBef>
              <a:buSzPct val="15939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Impact"/>
                <a:ea typeface="Impact"/>
              </a:rPr>
              <a:t>Frustrated User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"/>
          <p:cNvSpPr/>
          <p:nvPr/>
        </p:nvSpPr>
        <p:spPr>
          <a:xfrm>
            <a:off x="7175520" y="1778040"/>
            <a:ext cx="4622760" cy="977760"/>
          </a:xfrm>
          <a:prstGeom prst="roundRect">
            <a:avLst>
              <a:gd name="adj" fmla="val 19477"/>
            </a:avLst>
          </a:prstGeom>
          <a:solidFill>
            <a:srgbClr val="73ba40"/>
          </a:solidFill>
          <a:ln w="0">
            <a:noFill/>
          </a:ln>
          <a:effectLst>
            <a:outerShdw dist="76367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Before the wiki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"/>
          <p:cNvSpPr/>
          <p:nvPr/>
        </p:nvSpPr>
        <p:spPr>
          <a:xfrm>
            <a:off x="1028880" y="6210360"/>
            <a:ext cx="496548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762120" indent="-762120">
              <a:lnSpc>
                <a:spcPct val="100000"/>
              </a:lnSpc>
              <a:spcBef>
                <a:spcPts val="2401"/>
              </a:spcBef>
              <a:buSzPct val="15939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Impact"/>
                <a:ea typeface="Impact"/>
              </a:rPr>
              <a:t>Everyone Contribut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762120" indent="-762120">
              <a:lnSpc>
                <a:spcPct val="100000"/>
              </a:lnSpc>
              <a:spcBef>
                <a:spcPts val="2401"/>
              </a:spcBef>
              <a:buSzPct val="15939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Impact"/>
                <a:ea typeface="Impact"/>
              </a:rPr>
              <a:t>Happy User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1727280" y="3378240"/>
            <a:ext cx="358128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175520" y="1778040"/>
            <a:ext cx="4622760" cy="977760"/>
          </a:xfrm>
          <a:prstGeom prst="roundRect">
            <a:avLst>
              <a:gd name="adj" fmla="val 19477"/>
            </a:avLst>
          </a:prstGeom>
          <a:solidFill>
            <a:srgbClr val="73ba40">
              <a:alpha val="40000"/>
            </a:srgbClr>
          </a:solidFill>
          <a:ln w="0">
            <a:noFill/>
          </a:ln>
          <a:effectLst>
            <a:outerShdw dist="76367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Before the wiki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"/>
          <p:cNvSpPr/>
          <p:nvPr/>
        </p:nvSpPr>
        <p:spPr>
          <a:xfrm>
            <a:off x="7340760" y="6184800"/>
            <a:ext cx="427968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762120" indent="-762120">
              <a:lnSpc>
                <a:spcPct val="10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Impact"/>
                <a:ea typeface="Impact"/>
              </a:rPr>
              <a:t>Duplicat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762120" indent="-762120">
              <a:lnSpc>
                <a:spcPct val="100000"/>
              </a:lnSpc>
              <a:spcBef>
                <a:spcPts val="2401"/>
              </a:spcBef>
              <a:buSzPct val="1593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Impact"/>
                <a:ea typeface="Impact"/>
              </a:rPr>
              <a:t>Multiple versio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7594560" y="3238560"/>
            <a:ext cx="3780000" cy="2527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549440" y="1765440"/>
            <a:ext cx="4622760" cy="977760"/>
          </a:xfrm>
          <a:prstGeom prst="roundRect">
            <a:avLst>
              <a:gd name="adj" fmla="val 19477"/>
            </a:avLst>
          </a:prstGeom>
          <a:solidFill>
            <a:srgbClr val="73ba40"/>
          </a:solidFill>
          <a:ln w="0">
            <a:noFill/>
          </a:ln>
          <a:effectLst>
            <a:outerShdw dist="76367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With the wiki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6210360"/>
            <a:ext cx="496584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762120" indent="-762120">
              <a:lnSpc>
                <a:spcPct val="100000"/>
              </a:lnSpc>
              <a:spcBef>
                <a:spcPts val="2401"/>
              </a:spcBef>
              <a:buSzPct val="15939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Impact"/>
                <a:ea typeface="Impact"/>
              </a:rPr>
              <a:t>Centralised locat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762120" indent="-762120">
              <a:lnSpc>
                <a:spcPct val="100000"/>
              </a:lnSpc>
              <a:spcBef>
                <a:spcPts val="2401"/>
              </a:spcBef>
              <a:buSzPct val="15939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Impact"/>
                <a:ea typeface="Impact"/>
              </a:rPr>
              <a:t>One vers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1967040" y="3289320"/>
            <a:ext cx="3773520" cy="24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175520" y="1778040"/>
            <a:ext cx="4622760" cy="977760"/>
          </a:xfrm>
          <a:prstGeom prst="roundRect">
            <a:avLst>
              <a:gd name="adj" fmla="val 19477"/>
            </a:avLst>
          </a:prstGeom>
          <a:solidFill>
            <a:srgbClr val="73ba40"/>
          </a:solidFill>
          <a:ln w="0">
            <a:noFill/>
          </a:ln>
          <a:effectLst>
            <a:outerShdw dist="76367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Before the wiki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"/>
          <p:cNvSpPr/>
          <p:nvPr/>
        </p:nvSpPr>
        <p:spPr>
          <a:xfrm>
            <a:off x="7340760" y="6184800"/>
            <a:ext cx="427968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762120" indent="-762120">
              <a:lnSpc>
                <a:spcPct val="10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Impact"/>
                <a:ea typeface="Impact"/>
              </a:rPr>
              <a:t>Duplicat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762120" indent="-762120">
              <a:lnSpc>
                <a:spcPct val="100000"/>
              </a:lnSpc>
              <a:spcBef>
                <a:spcPts val="2401"/>
              </a:spcBef>
              <a:buSzPct val="1593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Impact"/>
                <a:ea typeface="Impact"/>
              </a:rPr>
              <a:t>Multiple versio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7594560" y="3238560"/>
            <a:ext cx="3780000" cy="2527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49440" y="1765440"/>
            <a:ext cx="4622760" cy="977760"/>
          </a:xfrm>
          <a:prstGeom prst="roundRect">
            <a:avLst>
              <a:gd name="adj" fmla="val 19477"/>
            </a:avLst>
          </a:prstGeom>
          <a:solidFill>
            <a:srgbClr val="73ba40">
              <a:alpha val="40000"/>
            </a:srgbClr>
          </a:solidFill>
          <a:ln w="0">
            <a:noFill/>
          </a:ln>
          <a:effectLst>
            <a:outerShdw dist="76367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With the wiki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6210360"/>
            <a:ext cx="496584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762120" indent="-762120">
              <a:lnSpc>
                <a:spcPct val="100000"/>
              </a:lnSpc>
              <a:spcBef>
                <a:spcPts val="2401"/>
              </a:spcBef>
              <a:buSzPct val="15939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Impact"/>
                <a:ea typeface="Impact"/>
              </a:rPr>
              <a:t>Centralised locat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762120" indent="-762120">
              <a:lnSpc>
                <a:spcPct val="100000"/>
              </a:lnSpc>
              <a:spcBef>
                <a:spcPts val="2401"/>
              </a:spcBef>
              <a:buSzPct val="15939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Impact"/>
                <a:ea typeface="Impact"/>
              </a:rPr>
              <a:t>One vers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1967040" y="3289320"/>
            <a:ext cx="3773520" cy="24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tlassian.com/software/confluenc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sales@atlassian.co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  <a:ea typeface="Gill Sans"/>
              </a:rPr>
              <a:t>learn mor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269720" y="1422000"/>
            <a:ext cx="10909080" cy="690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762120">
              <a:lnSpc>
                <a:spcPct val="100000"/>
              </a:lnSpc>
              <a:spcBef>
                <a:spcPts val="2999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Extensive documentation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5899"/>
              </a:spcBef>
              <a:buSzPct val="1593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Lack of a well planned communication strategy 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06360" y="291960"/>
            <a:ext cx="1148112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22455"/>
                </a:solidFill>
                <a:latin typeface="Impact"/>
                <a:ea typeface="Impact"/>
              </a:rPr>
              <a:t>Traditional Challenges in Communicating Complex HR Processes</a:t>
            </a: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269720" y="1422000"/>
            <a:ext cx="10909080" cy="690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762120">
              <a:lnSpc>
                <a:spcPct val="100000"/>
              </a:lnSpc>
              <a:spcBef>
                <a:spcPts val="2999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hard to search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5899"/>
              </a:spcBef>
              <a:buSzPct val="1593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difficult to add or edit content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5899"/>
              </a:spcBef>
              <a:buSzPct val="15939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frequently dependent upon a sole person (the 'gatekeeper') to manage; and therefore,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5899"/>
              </a:spcBef>
              <a:buSzPct val="15939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months or years out-of-date due to bottlenecks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06360" y="279360"/>
            <a:ext cx="122302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22455"/>
                </a:solidFill>
                <a:latin typeface="Impact"/>
                <a:ea typeface="Impact"/>
              </a:rPr>
              <a:t>Problems with Static Content</a:t>
            </a: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69720" y="1422000"/>
            <a:ext cx="10909080" cy="690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762120">
              <a:lnSpc>
                <a:spcPct val="100000"/>
              </a:lnSpc>
              <a:spcBef>
                <a:spcPts val="2999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Extensive documentation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5899"/>
              </a:spcBef>
              <a:buSzPct val="1593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Lack of a well planned communication strategy 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06360" y="291960"/>
            <a:ext cx="1148112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22455"/>
                </a:solidFill>
                <a:latin typeface="Impact"/>
                <a:ea typeface="Impact"/>
              </a:rPr>
              <a:t>Traditional Challenges in Communicating Complex HR Processes</a:t>
            </a: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269720" y="1422000"/>
            <a:ext cx="10909080" cy="690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762120">
              <a:lnSpc>
                <a:spcPct val="100000"/>
              </a:lnSpc>
              <a:spcBef>
                <a:spcPts val="2999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What is the most effective medium, email?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5899"/>
              </a:spcBef>
              <a:buSzPct val="1593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Which stake holders should be notified?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5899"/>
              </a:spcBef>
              <a:buSzPct val="15939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Does everyone require the same level of information?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5899"/>
              </a:spcBef>
              <a:buSzPct val="15939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How to ensure everyone receives the message?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06360" y="279360"/>
            <a:ext cx="122302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22455"/>
                </a:solidFill>
                <a:latin typeface="Impact"/>
                <a:ea typeface="Impact"/>
              </a:rPr>
              <a:t>Rolling Out Initiatives</a:t>
            </a: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269720" y="1422000"/>
            <a:ext cx="10909080" cy="690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762120">
              <a:lnSpc>
                <a:spcPct val="100000"/>
              </a:lnSpc>
              <a:spcBef>
                <a:spcPts val="2999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What is the most effective medium, email?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5899"/>
              </a:spcBef>
              <a:buSzPct val="1593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Which stake holders should be notified?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5899"/>
              </a:spcBef>
              <a:buSzPct val="15939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Does everyone require the same level of information?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5899"/>
              </a:spcBef>
              <a:buSzPct val="15939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How to ensure everyone receives the message?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06360" y="279360"/>
            <a:ext cx="122302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22455"/>
                </a:solidFill>
                <a:latin typeface="Impact"/>
                <a:ea typeface="Impact"/>
              </a:rPr>
              <a:t>Rolling Out Initiatives</a:t>
            </a: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269720" y="1422000"/>
            <a:ext cx="10909080" cy="690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762120">
              <a:lnSpc>
                <a:spcPct val="100000"/>
              </a:lnSpc>
              <a:spcBef>
                <a:spcPts val="2999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What is the most effective medium, email?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5899"/>
              </a:spcBef>
              <a:buSzPct val="1593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Which stake holders should be notified?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5899"/>
              </a:spcBef>
              <a:buSzPct val="15939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Does everyone require the same level of information?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5899"/>
              </a:spcBef>
              <a:buSzPct val="15939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How to ensure everyone receives the message?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06360" y="279360"/>
            <a:ext cx="122302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22455"/>
                </a:solidFill>
                <a:latin typeface="Impact"/>
                <a:ea typeface="Impact"/>
              </a:rPr>
              <a:t>Rolling Out Initiatives</a:t>
            </a: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269720" y="1422000"/>
            <a:ext cx="10909080" cy="690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762120">
              <a:lnSpc>
                <a:spcPct val="100000"/>
              </a:lnSpc>
              <a:spcBef>
                <a:spcPts val="2999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What is the most effective medium, email?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5899"/>
              </a:spcBef>
              <a:buSzPct val="1593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Which stake holders should be notified?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5899"/>
              </a:spcBef>
              <a:buSzPct val="15939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Does everyone require the same level of information?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5899"/>
              </a:spcBef>
              <a:buSzPct val="15939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Arial"/>
              </a:rPr>
              <a:t>How to ensure everyone receives the message?</a:t>
            </a:r>
            <a:endParaRPr b="0" lang="en-US" sz="3600" spc="-1" strike="noStrike">
              <a:solidFill>
                <a:srgbClr val="022455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06360" y="279360"/>
            <a:ext cx="122302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22455"/>
                </a:solidFill>
                <a:latin typeface="Impact"/>
                <a:ea typeface="Impact"/>
              </a:rPr>
              <a:t>Rolling Out Initiatives</a:t>
            </a: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696080" y="3008160"/>
            <a:ext cx="3581640" cy="2961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206360" y="1816200"/>
            <a:ext cx="4623120" cy="977760"/>
          </a:xfrm>
          <a:prstGeom prst="roundRect">
            <a:avLst>
              <a:gd name="adj" fmla="val 19477"/>
            </a:avLst>
          </a:prstGeom>
          <a:solidFill>
            <a:srgbClr val="73ba40"/>
          </a:solidFill>
          <a:ln w="0">
            <a:noFill/>
          </a:ln>
          <a:effectLst>
            <a:outerShdw dist="76367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With the wiki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"/>
          <p:cNvSpPr/>
          <p:nvPr/>
        </p:nvSpPr>
        <p:spPr>
          <a:xfrm>
            <a:off x="7340760" y="6222960"/>
            <a:ext cx="427968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762120" indent="-762120">
              <a:lnSpc>
                <a:spcPct val="100000"/>
              </a:lnSpc>
              <a:spcBef>
                <a:spcPts val="2401"/>
              </a:spcBef>
              <a:buSzPct val="1593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Impact"/>
                <a:ea typeface="Impact"/>
              </a:rPr>
              <a:t>IT Bottleneck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762120" indent="-762120">
              <a:lnSpc>
                <a:spcPct val="100000"/>
              </a:lnSpc>
              <a:spcBef>
                <a:spcPts val="2401"/>
              </a:spcBef>
              <a:buSzPct val="15939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Impact"/>
                <a:ea typeface="Impact"/>
              </a:rPr>
              <a:t>Frustrated User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"/>
          <p:cNvSpPr/>
          <p:nvPr/>
        </p:nvSpPr>
        <p:spPr>
          <a:xfrm>
            <a:off x="7175520" y="1778040"/>
            <a:ext cx="4622760" cy="977760"/>
          </a:xfrm>
          <a:prstGeom prst="roundRect">
            <a:avLst>
              <a:gd name="adj" fmla="val 19477"/>
            </a:avLst>
          </a:prstGeom>
          <a:solidFill>
            <a:srgbClr val="73ba40">
              <a:alpha val="40000"/>
            </a:srgbClr>
          </a:solidFill>
          <a:ln w="0">
            <a:noFill/>
          </a:ln>
          <a:effectLst>
            <a:outerShdw dist="76367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Before the wiki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"/>
          <p:cNvSpPr/>
          <p:nvPr/>
        </p:nvSpPr>
        <p:spPr>
          <a:xfrm>
            <a:off x="1028880" y="6210360"/>
            <a:ext cx="496548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762120" indent="-762120">
              <a:lnSpc>
                <a:spcPct val="100000"/>
              </a:lnSpc>
              <a:spcBef>
                <a:spcPts val="2401"/>
              </a:spcBef>
              <a:buSzPct val="15939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Impact"/>
                <a:ea typeface="Impact"/>
              </a:rPr>
              <a:t>Everyone Contribut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762120" indent="-762120">
              <a:lnSpc>
                <a:spcPct val="100000"/>
              </a:lnSpc>
              <a:spcBef>
                <a:spcPts val="2401"/>
              </a:spcBef>
              <a:buSzPct val="15939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2455"/>
                </a:solidFill>
                <a:latin typeface="Impact"/>
                <a:ea typeface="Impact"/>
              </a:rPr>
              <a:t>Happy User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1727280" y="3378240"/>
            <a:ext cx="3581280" cy="2243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