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19170"/>
        <c:axId val="84218727"/>
      </c:barChart>
      <c:catAx>
        <c:axId val="95319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18727"/>
        <c:crosses val="autoZero"/>
        <c:auto val="1"/>
        <c:lblAlgn val="ctr"/>
        <c:lblOffset val="100"/>
        <c:noMultiLvlLbl val="0"/>
      </c:catAx>
      <c:valAx>
        <c:axId val="84218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19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410-1589-4E15-BC6F-30760645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E2D-D802-41BA-950A-308FFD84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F3E-739C-402A-B6BA-AC30B542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4ED-6A36-4FAD-9342-ECF5A92F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30E-B06B-4D83-9B8B-45BC694A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7DA-2E2C-4FB2-B6B5-505D4A7C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BD9-62FB-4AC9-959C-716CEC98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F38-9C3E-488E-B3F4-188D99AF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B21-8492-4D42-A1DB-93E6B6D1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DFF-2188-4A0D-A4E4-305CB655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0E2-2728-4284-8915-951BBA5D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6ED-3E73-49DC-A91E-14E78006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D7061-71D4-440F-AE92-A4C00F0925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